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A26-05BD-4748-AC58-67EAF938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C1F-8F25-4269-9C1C-38804B3E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6C0-150B-4A9A-B03B-BF19D17F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286-F9F6-4EEB-9A59-F135DDD0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EBBF-9A4B-4905-BE43-EF3D85C3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D9ED-0D9A-4459-80CA-77F262D6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EA7A-236C-43F8-A8C7-21ABEC54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DA7A-B131-4B38-8E87-1C66E23A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C9B7-7D3A-41FF-BC83-A4B98C14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8AB4-D005-49D5-8D34-061427B7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81A7-E16E-4699-ABA5-96DEF078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ECF-E56F-4F6B-B57A-8561233B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46E3-1DC6-4E16-B0B3-6AD5DD5F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12AE-7002-434B-9414-3D6C0E72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487C-94C0-437C-887C-6AF9AC38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85AE-283B-49AA-9327-1034AFEA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B213-01CE-4EC8-A184-A5FCC201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1D8-5DA2-458A-A47C-AA4F62DB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22E-9FE2-4266-B07D-F4BF2209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90C-E5BA-4D49-97DE-3B80268F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151-6F36-47BE-9D46-63B484DF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BAA-2FD5-4B10-908B-C9759CB8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D14-FB1B-48A0-88C7-5A435BDA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AD6-E4B1-433B-9319-60A925D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F604-617C-472F-B563-F56841BFD26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4FBF-F29E-4781-8932-88F508E985F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103"/>
                </a:solidFill>
                <a:latin typeface="Arial Black"/>
              </a:rPr>
              <a:t>       </a:t>
            </a:r>
            <a:r>
              <a:rPr b="0" lang="en-US" sz="4800" spc="-1" strike="noStrike">
                <a:solidFill>
                  <a:srgbClr val="ffe103"/>
                </a:solidFill>
                <a:latin typeface="Arial Black"/>
              </a:rPr>
              <a:t>Character Word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Courag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103"/>
                </a:solidFill>
                <a:latin typeface="Arial Black"/>
              </a:rPr>
              <a:t>By: Jeanna Evans-Per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b17"/>
                </a:solidFill>
                <a:latin typeface="Arial Black"/>
              </a:rPr>
              <a:t>     </a:t>
            </a:r>
            <a:r>
              <a:rPr b="0" lang="en-US" sz="4400" spc="-1" strike="noStrike">
                <a:solidFill>
                  <a:srgbClr val="ff8b17"/>
                </a:solidFill>
                <a:latin typeface="Arial Black"/>
              </a:rPr>
              <a:t>What Does It Mea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6720" y="232740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Courage means that you are BRAVE and you will not let or  ANYONE or ANYTHING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4400" spc="-1" strike="noStrike">
                <a:solidFill>
                  <a:srgbClr val="ff8b17"/>
                </a:solidFill>
                <a:latin typeface="Arial Black"/>
              </a:rPr>
              <a:t>Character Wor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You need to be good in school and be a good example to other kids below you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103"/>
                </a:solidFill>
                <a:latin typeface="Arial Black"/>
              </a:rPr>
              <a:t>Also you need to have a good attitude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BE GOOD TO YOUR FRIENDS AND TEACHERS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1:56:16Z</dcterms:created>
  <dc:creator>Student</dc:creator>
  <dc:description/>
  <dc:language>en-US</dc:language>
  <cp:lastModifiedBy>Student</cp:lastModifiedBy>
  <dcterms:modified xsi:type="dcterms:W3CDTF">2011-05-25T12:22:07Z</dcterms:modified>
  <cp:revision>4</cp:revision>
  <dc:subject/>
  <dc:title>       Character Word</dc:title>
</cp:coreProperties>
</file>